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DED8-8898-4E15-997C-02B9D2B52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F02A-348C-40FE-A70E-0132760E5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90DB07-8D52-46A1-B76F-F956DCF22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8B4337-6A4A-43F2-A17C-F54B4CA0C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0CB39E-5B5C-4705-87D0-D9908DDB3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FC7BB3-2681-42FD-953D-8A5129DB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3F19C7-9D96-453F-98C8-7F951F4A2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47EDE0-6B91-4497-9813-EAAE28FB8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28AB20-F78E-43E5-A640-27094861E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9C6CE9-3168-438A-B607-F7F994874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62B965-9417-4123-B650-D8AE3A32D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6C46DB-9317-4545-84A6-06B816040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FA46-FCBC-46B3-9FA6-7B09AEA5A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C756EE-60C8-4A9E-8368-D28353DD2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B50F93-09A5-4654-AF70-953F935AC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690ECD-3C39-4A0E-8208-8ACC4BD1C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180882-BB8D-4CB8-B741-808E3DB21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FFDBA9-1FC1-43AD-AF26-466B124E7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F231A0-D4D3-4330-83A0-9DF96B4CE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DF69F5-97BC-49E2-BAA3-E1C35A24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7A2E52-A8D4-4C95-B0FD-026A645F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1DCF98-298A-4170-94D4-C9F5D31E2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C34461-6552-4D7E-819D-6A6BF0140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DD12-0F32-4A7B-864A-9CAB875E9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C33C1E-DA9A-4799-BEC8-49CA8C825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DC7121-8532-4FB5-81C1-00281C4D1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F9A906-2E24-4245-854F-AC97F4C5D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B41DBD-0355-4261-BD9F-5B54CB62D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621BCE-0235-458B-9664-839C534D0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A853CE-7DAA-4D96-B5D8-4D1E502CA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1A072A-CC43-4B06-AC0F-AF0C1704B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771ABD-A37E-4D2A-9C66-73565EA4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521424-DD3D-4120-B357-9F14D3B0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F35E61-C6EA-4C36-928C-54E77528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EF884-0EFA-4600-9E52-7CB705EB9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0457A3-1094-4407-9B38-E8155A8A3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3B34BB-E6C0-466E-B437-40DA34DF7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80A19A-7DC6-45F1-9599-5471FE7CA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30240A-A028-4F6D-930C-23649CFDD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D0F7FA-A90C-4F89-8247-D340D90BE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88597A-DB7D-459F-BD80-672963B99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780591-9FEB-417A-9D96-DC2A31883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85033D-7C7B-479B-B94F-0BD6D4479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D93FF7-0996-4FF6-BC1D-B2B8E8AD2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68B9F7-A188-4508-8B6D-10CE6953C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3E016-4B04-4FEC-8046-D189E70C8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36DA68-C121-494E-90A3-5BDD639B2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4716EB-41BD-4453-9572-34F3B5654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875F01-D3EB-45FF-8275-99D9A2506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D4BCF3-5F00-435F-9678-8200B8933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420848-1803-40D5-A582-06A5DDA7D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A8EE54-3A01-4D7B-869F-90350034B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985658-0DD1-449D-95F1-F69FF9359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7CBFB2-E908-4401-8539-9D9549345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551DDE-D3A2-4472-9D28-B1C9216D0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70F04D-F736-4BEA-A9DF-A489F6963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BE3C3-D4B8-47CF-8728-35049CCFE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BB24A9-1D65-49C6-940D-7A4FBCCC5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E4667A-8519-40A9-BDDA-31F64A6F9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9E36EB-FF8B-47C8-8672-7A26BDB21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DD4168-7968-42F2-9A28-C850FE5C3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C5962B-21A5-4A09-A7BB-34912AE78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3B9BE2-DDA9-45CF-8C13-797C6C4F9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6763A0-7FEA-4C06-A450-4AB0A3513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743BE3-004F-4F86-9F8E-ABE0C3DC3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7EF2DE-66A2-4448-A7FA-342D51622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2F486C-72FF-4905-A674-292016B9A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339E0-B61C-49DA-87BC-BCE6FC24F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E3AEC7-C429-4111-B359-97948BF73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946A8C-B24D-4CE8-B10D-93CC28850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2F7859-7877-4014-8F8F-411765841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AAC69F-7096-4AA3-B614-49C7A7318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816355-9985-4448-83AE-AD96D4017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B697A5-1537-4B88-A19C-17BFB84DD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7A4A3E-6376-48DA-9A6A-09BEF0264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92345D-9E87-49CE-80BD-DA49DB6D2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A511EF-F9E7-4899-AA84-D949DF860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A8A73E-B896-419C-A3E6-257A5C016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1727F-DBD3-493F-BA0E-56DBC240C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FB0BFF-AB8C-46C0-A2EF-E1D384FE9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DD2D5F-6071-4E52-8C9E-CAF4A092A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E68E1D-A29E-4E98-8AF5-48B698F5A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CC77F2-85BE-4886-AB3E-0E5D8C4AF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0FF3B0-2E15-46F6-A693-8CFBB4BCB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0AA0D0-D415-40BA-9803-FC96B826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404090-58F2-4AEE-8A55-75DD279AA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A00CB6-F3F1-4283-AC86-0CE486D2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E04EAA-EF34-4819-8A90-D9DA54106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C869DB-0101-4B84-967C-FDB6A33C6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F2C53-AB83-45EE-B05B-200366E52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4EF96E-7E87-4F57-A614-E8FAFE866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0C908E-D1BA-4C57-BC20-8627AEF82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F94A30-0BC4-490D-87E4-512D5AB16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8EC361-C7E4-4089-B915-31D2D5487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E6DC36-12C9-4E53-8A71-F0AC4F151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DC00F7-C075-45C0-8099-29CD9F5B5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C066D9-DDFD-4802-918A-C81605CEE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119424-AC44-428C-B74C-EAA4AAC4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D5BC2E-A628-4EAD-B8B9-B90B8257D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10F9DD-A1C3-4BD9-96DD-C0430451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C03BD-6852-4ABE-A073-0F4C27686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2988C3-0AD2-4224-B3B1-8B0656458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9A0B8C-2764-4F9A-A278-642F1F838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83B3C3-1E40-45CD-AA2C-750EBBE71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A1CA43-D620-4517-99B2-328ADB4A8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2973A8-0E29-4FB4-A8FE-B5BE21022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33722D-EEFF-4C81-B9E2-C7936FB2D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92DC3D-5B2A-4521-9A73-6848CB959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5E61E1-9892-44BF-94E7-3BE473804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A630B6-634A-4785-B2CD-E659AFE5F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C71C0E-7CC9-4680-80D3-99B5D4B2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9E55-9787-4859-BA20-2D0160FD1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5E2FA-4F5F-422F-B5CA-960FC472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4E2246-DCDC-476A-854D-300698CE0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D3B51D-8904-46E3-9389-9BFAF32B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D5B1C9-A19D-441E-8E22-4760D800D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1F16DD-6FDC-4105-A2AD-47EA7B269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ADF0D1-C625-48D1-92DB-A770CE81D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7670A4-28FF-4032-9D95-2CB79AA83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A3B26C-3C1D-4757-887F-FAD23A55B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C7B26C-9E9B-44B8-B9A2-470B332D6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ECB419-03D0-46BC-A968-A21A7AE36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D2F301-61EB-41E3-8665-AA5BE4F4D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F844A-B837-498A-AAA2-365EF405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0A08A1-85BB-40FF-B5DC-D64382ACD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D9CBBD-17FF-4B2B-98C9-261C74F0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79F93B-E05B-4FF6-A8D0-DECD4260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B5EB5D-3BCA-4A96-988B-A161566F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BA48A9-9BAE-45B6-94B9-E40867492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F74D8D-F258-49C3-957E-FD9A3A6D1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32E172-B1E5-4E22-AA89-4084BF403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D1C01C-5D57-400F-91CA-F38B3854F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D108BB-0C80-4DCE-AAA7-634DB97D3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EB6D57-BA91-477C-9E39-FFA3E4BF9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92DC4-B887-4537-AD0B-E41F1B7FF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00B554-FDC7-43F6-97AC-C9AA1BA05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331870-EC01-4394-86D9-AAD9B5D41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3DBE8B-10F1-4A0C-B18B-188B205D2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F2BF55-EDCD-471D-A8C0-CB7FBBD62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466CAE-B76F-454A-A906-1EF8ED4A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C98222-0EA2-4FC4-A057-F8A72F96F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EC9073-E81F-4B5C-A8E0-57C0FBF78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00275B-076C-405A-9832-AE59699E2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36CE88-E878-448B-8BD1-915C25AAC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750A76-EA30-466B-9424-0994AF535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81232-AD6B-4DDC-84D7-B054E981C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65D26C-B0BF-437F-9B78-D9A2E19ED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473DB9-EE54-4B6A-A2EC-BE189CE3C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1B6463-D5D4-43E8-95C5-0299FD6DB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632A54-9B33-4435-B3CA-6AD425959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F006FC-865B-41FC-87FE-F82FAD229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F7B7C9-FB28-48DE-B518-CB3BBD01F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92ADB8-A428-4E35-B84E-8C0019529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EA7B85-FF32-4C4A-820B-B2C83A9AF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426F7C-F712-4A6F-B134-36EB16ADE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D453CE-5B59-44B6-A77A-1E5BA2188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918F7-1BCF-4456-AEF1-DEFD60081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CC5DAA-73F5-4BBF-891C-E8B282002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4CBFFF-9A29-4EAE-80D6-EB69BACDD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B73C2F-6A79-4DB2-97F7-979875A60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C1C695-100A-4181-B4CA-30D02871A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42E345A-8831-4FC9-874B-B93D40D83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F5BD75-F465-4EE4-84F4-28C1B2BF3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699212-0E43-4EC0-8341-4BEC1421A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3C4950-2562-4409-B005-9143B2949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73163A-9994-41FD-A85C-C3C65A11F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F0A3EB-5E2D-4FC6-B328-C5AD7020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A5547-5F6B-4777-98DA-262DB3114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763E18-AED8-43B0-BC2E-E56393962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7B3D211-4F82-43A9-B488-51B009CB6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EF1A7C-4097-4D85-84DF-B1B3D0EEC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70902-56EB-476E-B1A5-0B65F96DE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96851-4AF4-4EA9-8837-AF60E9D42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F056D-DFCE-40D9-8781-AC3E1F437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AA00B-513E-4796-AFD5-85D89452E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97B9-B439-43F3-B6F2-536F68C61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B7279-4C21-44A2-9D9D-56FFB084C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083D8-D23C-498A-9258-B37F27CD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7EEC8-4B64-43F8-B647-0A123F833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E60E1-3E2A-476D-B4B5-81EBB665D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07197-45C2-47C5-B2C8-181569849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B5045-40AD-4AFD-B180-973718287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39117-A07F-493D-9CB8-2CBCC2EBB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4E2A0-AF46-4BC5-B79D-487C72F69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0B6FE-2C92-43C2-AFE9-B4A2CF1EC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0E2E7-D279-4CA0-809C-6FC54F6BC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F5F8-391D-4B14-B41E-77CEACBCC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4E3BA-8D5E-454E-915E-F33982C1D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83EE0-EBF3-47E8-88B0-C816B5A7A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E7CC3-AB6F-40B0-908A-5BD0EE1EF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D5653-151F-42E2-B106-3B7B719F1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14820-7AF5-46B1-B048-2BC609BDF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0AB42-D67A-46FE-AADD-D8B49DE2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BCC6E-5B0D-45C9-99E2-1121C651E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7F498-E540-49B3-8287-11EB15498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FDAC3-335B-421D-BE3F-AE9682819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B08A5-3BF6-438C-8BDA-13F0BD856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6B6C-A42D-42DC-A763-7F7087876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959D82-F3FA-45EB-B379-FC9228CF5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93226-D92B-4483-AC4A-EB6226E5E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E123D-7DA5-4221-A148-7CD268D6A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2E488-F17F-42C4-8344-7F0E69B38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61A5A-E641-4A93-BC34-C49EC3B32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55EAA-5492-4C07-858B-C6C051FAE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DD758-1FD1-4733-9415-14D61862C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ED9062-C6A2-407E-948D-EE1C546DB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CDCA5-6E8E-493C-8FF6-FCF48C7F4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31FE80-7EF6-4297-8E49-21C3D4D95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B742-055C-468E-A189-1995D25BC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DF3C13-87EA-476A-8340-4213D5DA2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ED5B58-F02C-49DF-8BAF-5507EBB4D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D4E181-F573-41E3-AE54-E0572E068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C077B2-D72C-4DAF-8562-A5974BDBF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9055FD-004E-4A9E-8515-130DADF12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577FF7-F1A8-48F0-B6E3-1FCA68A34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A926E9-3F3B-45FF-AEB4-C8C979A39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DCA62D-00C7-434F-A83B-74502EAB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CCCDB9-7340-4583-AAB9-BC7300A8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3243EC-48D9-47AC-BB24-E928A195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83C0-56C3-4CB2-AFCE-9D7CA4BD1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DF8878-2909-4611-B681-807278DF3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AA101B-4EEB-4DB3-9B0B-72CC21EC5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653223-31DD-40EB-A1C7-AB33C204D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50CF13-8C00-4133-BA11-E5F757D5D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043B71-E8ED-45D2-B712-7A7B2E74C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0A2D1B-984C-4D28-8776-A5F00B50F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921C6E-0FAB-49CD-BF80-C48AF5974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95BE47-61C2-4289-8BA5-561F5EF10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85B8BC-A04F-4B40-9F20-216BD1C1C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4C3C3D-F55C-4AB8-B98D-B1DECC69B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42B0-02F6-4EF1-8E78-5EECC7257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56AEB1-8BFA-4CB7-8F36-0C1BF17C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0DDADA-5FBE-4D1A-9BF8-780CA4C81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F05EC8-CAA4-4133-B7CF-DB14F7579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85AD85-5F3D-4EE8-A39E-DD78AE981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F8047B-CDB9-436E-8506-88184D5E5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2112D7-A651-43AE-AADF-6D7F6C05A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652018-25F2-41B8-8B43-AC79F3D35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C2940F-6F04-476F-B011-97E0716D7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79002F-462A-4C6F-80CC-B423D6994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7BC10A-C0C6-4EAC-89CC-2F73E657E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E90E-F1BF-43D9-8E5F-9187C1756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A3ED5F-BDAF-4740-9409-556044880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376851-3B0E-419A-991D-8AC9EA971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BD9A9E-4020-4CC3-99AB-9C42C443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BB31EA-76EE-4F16-A4C5-6FBCF251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7B6229-6E8B-43F6-8130-C6FD2B72E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3FAB12-618B-4D63-89D4-6A58AA495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3F8D6C-D6C3-4767-8B4E-E9210CE81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BB1790-8A1F-4C4C-9907-38261DA4C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BEAC89-CB55-4B3A-BF7F-87AEB7459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D3ED3D-06E8-4415-AFB2-4EBCB0588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49E0F-BA03-4D23-A6BF-EC715537D74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54003-4713-452A-92C2-33282C9B83C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402AD-4E63-46EB-AF28-9E4C94D7185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01A8B-8F10-42FF-861B-EF4DEFF062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39AB1-7140-4253-A3F5-8E6DD9EA732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A1DEE-1A01-4717-963D-856A51534EE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1E867-8B18-4088-AB85-DC13BE8F343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815F3-D7F2-4AE0-94A2-D88F8ECDA90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36660-C845-409D-8B1C-31825D2D6C8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F6779-D088-4FC6-A6C2-C64EE35EC9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992A9-E979-4610-998B-070ADBB580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E8A9B-4125-42D0-AF50-41767AB0582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E35F2-B1D8-4958-BEE0-4B67193ADB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F906A-AE4F-4C76-835D-BDC9E3EA7FF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45984-3515-4912-9B17-F326FD15A0C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B0EEA-EAFD-42CB-958A-E786C1122D0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8463C-4280-4939-A68B-32D206020B7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56218-1D13-49DE-9311-DCED316F52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2042F-AF93-43CA-A007-440C2D1D83A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1E962-64D7-4563-AD50-59E3E9207F8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0523A-26F8-464D-AB82-0A76153D87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CF14A-7BB0-47FC-9E27-1D8E56E672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C7859-7F29-402C-98CD-4A2C1354089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71ECA-B25D-4CE6-B265-85B0FDB5962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FB57C-C4A5-4CD5-970F-1E99F425F1F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78D9C-72DE-49D7-AC3A-F5CD486F346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BD7EB-75F0-472D-9ED5-9F5D1A54DA0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DFD5C-329D-48F5-93E6-57626E8480B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7E23E-0F45-44F6-A66C-29C2E047328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0F1D8-823E-4D38-AC47-FC0B0D4B91C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4C807-C30F-44BB-AE82-324A522400F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FA688-C630-4CE9-A40F-083D9F21477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BFB82-A207-4844-8C46-CBBE479494E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67CEE-A769-4D76-839C-8D3DF8BAC08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F8FA5-B63F-4B00-943B-C7F89626EA7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96648-22AE-482A-B70F-9DDBCB4A6F8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5CD1B-264E-40C1-85B5-60359654884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1B4AD-0458-4FD9-81F4-98091F47206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9D51B-F426-4A41-B9B2-82EFFAD63D4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45CE0-E75C-4289-92E9-8A9130977AC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048040" y="3186000"/>
            <a:ext cx="5047920" cy="4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128520" y="1309680"/>
            <a:ext cx="8886960" cy="423864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1951200" y="3068640"/>
            <a:ext cx="287280" cy="2570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2575080" y="3068640"/>
            <a:ext cx="287280" cy="2570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3943440" y="3059280"/>
            <a:ext cx="287280" cy="2570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1955880" y="3592440"/>
            <a:ext cx="287280" cy="25740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2575080" y="3592440"/>
            <a:ext cx="287280" cy="25740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3943440" y="3592440"/>
            <a:ext cx="287280" cy="257400"/>
          </a:xfrm>
          <a:prstGeom prst="rect">
            <a:avLst/>
          </a:prstGeom>
          <a:ln w="0">
            <a:noFill/>
          </a:ln>
        </p:spPr>
      </p:pic>
      <p:pic>
        <p:nvPicPr>
          <p:cNvPr id="929" name="图片 60435" descr=""/>
          <p:cNvPicPr/>
          <p:nvPr/>
        </p:nvPicPr>
        <p:blipFill>
          <a:blip r:embed="rId8"/>
          <a:stretch/>
        </p:blipFill>
        <p:spPr>
          <a:xfrm>
            <a:off x="1393920" y="4024440"/>
            <a:ext cx="1655640" cy="414360"/>
          </a:xfrm>
          <a:prstGeom prst="rect">
            <a:avLst/>
          </a:prstGeom>
          <a:ln w="0">
            <a:noFill/>
          </a:ln>
        </p:spPr>
      </p:pic>
      <p:pic>
        <p:nvPicPr>
          <p:cNvPr id="930" name="图片 60436" descr=""/>
          <p:cNvPicPr/>
          <p:nvPr/>
        </p:nvPicPr>
        <p:blipFill>
          <a:blip r:embed="rId9"/>
          <a:stretch/>
        </p:blipFill>
        <p:spPr>
          <a:xfrm>
            <a:off x="1370160" y="4560840"/>
            <a:ext cx="1655640" cy="41436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10"/>
          <a:stretch/>
        </p:blipFill>
        <p:spPr>
          <a:xfrm>
            <a:off x="4067280" y="4653000"/>
            <a:ext cx="287280" cy="257040"/>
          </a:xfrm>
          <a:prstGeom prst="rect">
            <a:avLst/>
          </a:prstGeom>
          <a:ln w="0">
            <a:noFill/>
          </a:ln>
        </p:spPr>
      </p:pic>
      <p:pic>
        <p:nvPicPr>
          <p:cNvPr id="932" name="图片 60438" descr=""/>
          <p:cNvPicPr/>
          <p:nvPr/>
        </p:nvPicPr>
        <p:blipFill>
          <a:blip r:embed="rId11"/>
          <a:stretch/>
        </p:blipFill>
        <p:spPr>
          <a:xfrm>
            <a:off x="1370160" y="5103720"/>
            <a:ext cx="1655640" cy="41436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12"/>
          <a:stretch/>
        </p:blipFill>
        <p:spPr>
          <a:xfrm>
            <a:off x="4067280" y="5186520"/>
            <a:ext cx="287280" cy="25704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13"/>
          <a:stretch/>
        </p:blipFill>
        <p:spPr>
          <a:xfrm>
            <a:off x="6559560" y="4384800"/>
            <a:ext cx="60480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5" name="图片 59410" descr=""/>
          <p:cNvPicPr/>
          <p:nvPr/>
        </p:nvPicPr>
        <p:blipFill>
          <a:blip r:embed="rId1"/>
          <a:stretch/>
        </p:blipFill>
        <p:spPr>
          <a:xfrm>
            <a:off x="318960" y="1857240"/>
            <a:ext cx="8506080" cy="314352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2"/>
          <a:stretch/>
        </p:blipFill>
        <p:spPr>
          <a:xfrm>
            <a:off x="5076720" y="2997360"/>
            <a:ext cx="287280" cy="25704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3"/>
          <a:stretch/>
        </p:blipFill>
        <p:spPr>
          <a:xfrm>
            <a:off x="6804000" y="2997360"/>
            <a:ext cx="287280" cy="25704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4"/>
          <a:stretch/>
        </p:blipFill>
        <p:spPr>
          <a:xfrm>
            <a:off x="1960560" y="3554280"/>
            <a:ext cx="287280" cy="25740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5"/>
          <a:stretch/>
        </p:blipFill>
        <p:spPr>
          <a:xfrm>
            <a:off x="3328920" y="3538440"/>
            <a:ext cx="287280" cy="25740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6"/>
          <a:stretch/>
        </p:blipFill>
        <p:spPr>
          <a:xfrm>
            <a:off x="6084720" y="4086360"/>
            <a:ext cx="287640" cy="25704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7"/>
          <a:stretch/>
        </p:blipFill>
        <p:spPr>
          <a:xfrm>
            <a:off x="7812000" y="4086360"/>
            <a:ext cx="287280" cy="25704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8"/>
          <a:stretch/>
        </p:blipFill>
        <p:spPr>
          <a:xfrm>
            <a:off x="1960560" y="4653000"/>
            <a:ext cx="287280" cy="25704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9"/>
          <a:stretch/>
        </p:blipFill>
        <p:spPr>
          <a:xfrm>
            <a:off x="3328920" y="4643280"/>
            <a:ext cx="287280" cy="2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4" name="图片 58373" descr=""/>
          <p:cNvPicPr/>
          <p:nvPr/>
        </p:nvPicPr>
        <p:blipFill>
          <a:blip r:embed="rId1"/>
          <a:stretch/>
        </p:blipFill>
        <p:spPr>
          <a:xfrm>
            <a:off x="157320" y="1228680"/>
            <a:ext cx="8829360" cy="440064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2"/>
          <a:stretch/>
        </p:blipFill>
        <p:spPr>
          <a:xfrm>
            <a:off x="5651640" y="2575080"/>
            <a:ext cx="936360" cy="25704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3"/>
          <a:stretch/>
        </p:blipFill>
        <p:spPr>
          <a:xfrm>
            <a:off x="5867280" y="3260880"/>
            <a:ext cx="1441440" cy="25704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4"/>
          <a:stretch/>
        </p:blipFill>
        <p:spPr>
          <a:xfrm>
            <a:off x="2340000" y="5281560"/>
            <a:ext cx="360360" cy="25740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5"/>
          <a:stretch/>
        </p:blipFill>
        <p:spPr>
          <a:xfrm>
            <a:off x="6372360" y="5291280"/>
            <a:ext cx="360360" cy="25704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6"/>
          <a:stretch/>
        </p:blipFill>
        <p:spPr>
          <a:xfrm>
            <a:off x="8459640" y="2411280"/>
            <a:ext cx="360360" cy="25740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7"/>
          <a:stretch/>
        </p:blipFill>
        <p:spPr>
          <a:xfrm>
            <a:off x="8532720" y="2824200"/>
            <a:ext cx="360360" cy="25704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8"/>
          <a:stretch/>
        </p:blipFill>
        <p:spPr>
          <a:xfrm>
            <a:off x="8450280" y="3232080"/>
            <a:ext cx="360360" cy="25740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9"/>
          <a:stretch/>
        </p:blipFill>
        <p:spPr>
          <a:xfrm>
            <a:off x="8459640" y="3654360"/>
            <a:ext cx="360360" cy="25740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10"/>
          <a:stretch/>
        </p:blipFill>
        <p:spPr>
          <a:xfrm>
            <a:off x="8326440" y="4067280"/>
            <a:ext cx="360360" cy="25704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11"/>
          <a:stretch/>
        </p:blipFill>
        <p:spPr>
          <a:xfrm>
            <a:off x="8450280" y="4498920"/>
            <a:ext cx="360360" cy="25740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12"/>
          <a:stretch/>
        </p:blipFill>
        <p:spPr>
          <a:xfrm>
            <a:off x="8459640" y="4897440"/>
            <a:ext cx="360360" cy="25704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13"/>
          <a:stretch/>
        </p:blipFill>
        <p:spPr>
          <a:xfrm>
            <a:off x="8459640" y="5310360"/>
            <a:ext cx="36036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7T01:55:37Z</dcterms:modified>
  <cp:revision>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